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D89E-657D-44D7-A330-5F64CD8E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5545-9528-4C95-AEB0-124E6477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DA64-485B-4556-9F8E-DA40814D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DCAF-087B-4588-8669-25811902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E57D-AB5F-4B46-B96D-DC98EAFB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DA7B-F050-4619-B61E-84A30D48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65B0-7735-436E-890A-15A3EF90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0EA0-3202-4994-9B53-88A73E87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87C7-461C-40B0-8E1E-AB843C37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B9EF-653F-47C5-AB49-3CC9F81F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29E1-D1AF-4E41-B99B-F2474D62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4FAB-C949-4152-A7D6-5303218D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64A7-C2BD-447A-8398-D6A88DD09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7160" y="490680"/>
            <a:ext cx="827460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ld colloids on mica covered with polylys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 ul polylysine (3.5 mg/ml in d.i. wa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 freshly cleaved mica for 1 min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nse with d.i. water and dry in nitrogen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 th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 ul goild colloids (fridge 702, Sigma *) dilluted 1:10 in d.i. wa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5 min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nse with d.i. water and dry in nitrogen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re the sample in the desicc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AGE: see next slid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Gold colloid 5 nm, Sigma G-14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centration approx. 0.01% as HAuCl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iophysical Journal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92-997, 199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on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lloids1" descr=""/>
          <p:cNvPicPr/>
          <p:nvPr/>
        </p:nvPicPr>
        <p:blipFill>
          <a:blip r:embed="rId1"/>
          <a:stretch/>
        </p:blipFill>
        <p:spPr>
          <a:xfrm>
            <a:off x="347760" y="260280"/>
            <a:ext cx="84470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7:48:43Z</dcterms:created>
  <dc:creator>Dionne</dc:creator>
  <dc:description/>
  <dc:language>en-US</dc:language>
  <cp:lastModifiedBy>Henriette Jensenius</cp:lastModifiedBy>
  <dcterms:modified xsi:type="dcterms:W3CDTF">2003-05-21T09:51:10Z</dcterms:modified>
  <cp:revision>3</cp:revision>
  <dc:subject/>
  <dc:title>PowerPoint Presentation</dc:title>
</cp:coreProperties>
</file>